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4C9A-4594-4D2A-9196-9A27EDE2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18FA-C272-4C10-8BD1-52AA75B5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8219-85A6-4FCB-8C7D-BB71FFA3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71D0-81A6-41B9-AD5E-6534BC24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36EC-FB27-4B2D-9E2B-F1742506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6400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62472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0328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56400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62472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4F9-C5C3-4B9B-9453-43E69871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B002-329D-48C1-B2C2-4C11CDB6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A33C-8113-4389-BFAF-28A29761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368C-34EC-42F5-BDBE-C2DC7FC5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0186-6F8F-4B1C-A9DE-D558AEB2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D08D-2E0D-4D68-8E81-4CFBF6C2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9887-4BAF-4A8D-90BF-F5C68953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203600"/>
            <a:ext cx="2346120" cy="414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203600"/>
            <a:ext cx="3184560" cy="414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203600"/>
            <a:ext cx="2346120" cy="414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D1691B87-C8B7-454E-B72C-D819A17C6103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able 6"/>
          <p:cNvGrpSpPr/>
          <p:nvPr/>
        </p:nvGrpSpPr>
        <p:grpSpPr>
          <a:xfrm>
            <a:off x="0" y="0"/>
            <a:ext cx="10058400" cy="7772400"/>
            <a:chOff x="0" y="0"/>
            <a:chExt cx="10058400" cy="777240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251460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14600" y="0"/>
              <a:ext cx="251460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29200" y="0"/>
              <a:ext cx="251460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543800" y="0"/>
              <a:ext cx="251460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886200"/>
              <a:ext cx="251460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886200"/>
              <a:ext cx="251460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029200" y="3886200"/>
              <a:ext cx="251460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543800" y="3886200"/>
              <a:ext cx="251460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14600" y="0"/>
              <a:ext cx="0" cy="777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29200" y="0"/>
              <a:ext cx="0" cy="777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43800" y="0"/>
              <a:ext cx="0" cy="777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886200"/>
              <a:ext cx="1005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0"/>
              <a:ext cx="0" cy="777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058400" y="0"/>
              <a:ext cx="0" cy="777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0"/>
              <a:ext cx="1005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7772400"/>
              <a:ext cx="1005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Right Arrow Callout 7"/>
          <p:cNvGrpSpPr/>
          <p:nvPr/>
        </p:nvGrpSpPr>
        <p:grpSpPr>
          <a:xfrm>
            <a:off x="-2852640" y="-36360"/>
            <a:ext cx="2828880" cy="3462120"/>
            <a:chOff x="-2852640" y="-36360"/>
            <a:chExt cx="2828880" cy="3462120"/>
          </a:xfrm>
        </p:grpSpPr>
        <p:pic>
          <p:nvPicPr>
            <p:cNvPr id="59" name="Right Arrow Callout 7" descr=""/>
            <p:cNvPicPr/>
            <p:nvPr/>
          </p:nvPicPr>
          <p:blipFill>
            <a:blip r:embed="rId2"/>
            <a:stretch/>
          </p:blipFill>
          <p:spPr>
            <a:xfrm>
              <a:off x="-2852640" y="-36360"/>
              <a:ext cx="2828880" cy="34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-2743200" y="0"/>
              <a:ext cx="1733400" cy="33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OP R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riple-click on the phrase and begin typing your information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O NOT press the delete key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Right Arrow Callout 8"/>
          <p:cNvGrpSpPr/>
          <p:nvPr/>
        </p:nvGrpSpPr>
        <p:grpSpPr>
          <a:xfrm>
            <a:off x="10077480" y="957240"/>
            <a:ext cx="2790720" cy="2011320"/>
            <a:chOff x="10077480" y="957240"/>
            <a:chExt cx="2790720" cy="2011320"/>
          </a:xfrm>
        </p:grpSpPr>
        <p:pic>
          <p:nvPicPr>
            <p:cNvPr id="62" name="Right Arrow Callout 8" descr=""/>
            <p:cNvPicPr/>
            <p:nvPr/>
          </p:nvPicPr>
          <p:blipFill>
            <a:blip r:embed="rId3"/>
            <a:stretch/>
          </p:blipFill>
          <p:spPr>
            <a:xfrm>
              <a:off x="10077480" y="957240"/>
              <a:ext cx="279072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1068200" y="990720"/>
              <a:ext cx="173340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OP R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Insert Clip Art for each page in the top row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Right Arrow Callout 9"/>
          <p:cNvGrpSpPr/>
          <p:nvPr/>
        </p:nvGrpSpPr>
        <p:grpSpPr>
          <a:xfrm>
            <a:off x="10077480" y="4157640"/>
            <a:ext cx="2840040" cy="3309840"/>
            <a:chOff x="10077480" y="4157640"/>
            <a:chExt cx="2840040" cy="3309840"/>
          </a:xfrm>
        </p:grpSpPr>
        <p:pic>
          <p:nvPicPr>
            <p:cNvPr id="65" name="Right Arrow Callout 9" descr=""/>
            <p:cNvPicPr/>
            <p:nvPr/>
          </p:nvPicPr>
          <p:blipFill>
            <a:blip r:embed="rId4"/>
            <a:stretch/>
          </p:blipFill>
          <p:spPr>
            <a:xfrm>
              <a:off x="10077480" y="4157640"/>
              <a:ext cx="2840040" cy="33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11068200" y="4191120"/>
              <a:ext cx="173340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BOTTOM R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Insert Clip Art for each page in the bottom row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Rotate each picture so that it is upside down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Right Arrow Callout 10"/>
          <p:cNvGrpSpPr/>
          <p:nvPr/>
        </p:nvGrpSpPr>
        <p:grpSpPr>
          <a:xfrm>
            <a:off x="-2852640" y="3621240"/>
            <a:ext cx="2828880" cy="4529160"/>
            <a:chOff x="-2852640" y="3621240"/>
            <a:chExt cx="2828880" cy="4529160"/>
          </a:xfrm>
        </p:grpSpPr>
        <p:pic>
          <p:nvPicPr>
            <p:cNvPr id="68" name="Right Arrow Callout 10" descr=""/>
            <p:cNvPicPr/>
            <p:nvPr/>
          </p:nvPicPr>
          <p:blipFill>
            <a:blip r:embed="rId5"/>
            <a:stretch/>
          </p:blipFill>
          <p:spPr>
            <a:xfrm>
              <a:off x="-2852640" y="3621240"/>
              <a:ext cx="2828880" cy="45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-2743200" y="3657600"/>
              <a:ext cx="1733400" cy="44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BOTTOM R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riple-click on the phrase and begin typing your information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O NOT press the delete key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Rotate all text boxes so that they are upside dow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152280" y="228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ck C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2743200" y="2286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v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334120" y="228600"/>
            <a:ext cx="205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ge 1-Triple-click in this text box and enter your information for Page 1 of your 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7772400" y="228600"/>
            <a:ext cx="205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ge 2-Triple-click in this text box and enter your information for Page 2 of your 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257800" y="4449600"/>
            <a:ext cx="2057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ge 4-Triple-click in this text box and enter your information for Page 4 of your book. Rotate the text box 180 degrees  after you have entere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7696080" y="4449600"/>
            <a:ext cx="2057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ge 3-Triple-click in this text box and enter your information for Page 3 of your book. Rotate the text box 180 degrees  after you have entere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304920" y="4449600"/>
            <a:ext cx="2057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ge 6-Triple-click in this text box and enter your information for Page 6 of your book. Rotate the text box 180 degrees after you have entere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2666880" y="4449600"/>
            <a:ext cx="2133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ge  5-Triple-click in this text box and enter your information for Page 5 of your book. Rotate the text box 180 degrees  after you have entere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2:04:32Z</dcterms:created>
  <dc:creator>Owner</dc:creator>
  <dc:description/>
  <dc:language>en-US</dc:language>
  <cp:lastModifiedBy>misd</cp:lastModifiedBy>
  <dcterms:modified xsi:type="dcterms:W3CDTF">2010-02-22T20:08:26Z</dcterms:modified>
  <cp:revision>7</cp:revision>
  <dc:subject/>
  <dc:title>Slide 1</dc:title>
</cp:coreProperties>
</file>